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800-C3A0-4E4A-866C-AC9C26FB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EEF-AF7D-47BC-89BA-C175B2D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5F0-F6F4-4F20-884E-6C40D4EA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2DD-F1C3-4642-BDE7-F950688D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BD8-26B7-45BE-A4D8-B76C8957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7E5-0E62-4F42-9132-CC6976E6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BBCD-DAFA-4F6A-A809-9DCC7E4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892-E905-44FC-A70D-F49086B4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2F54-81FF-420F-A03B-11B675D5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C1A-05C3-408B-805E-4F9F6E7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F94C-110C-4D70-8639-CBE3DA0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A29-6745-4E5A-A6BD-243F2632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E769-ED54-4383-B3CD-DA828C1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DE2-EC6E-43D6-9EC9-D67E111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40C-1256-4859-B6C8-976C678A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6A4E-60EA-4990-94F0-2C4A20E0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7DC-700E-43F1-AE53-D4C14EC2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68C-5657-4D06-8B9C-CC4F1705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7E6-31DF-4FD3-9B75-016FEF0F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E03-036F-4E01-AD62-84B5676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C71-FBD8-4608-B6A9-5D53AA15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90-BC5D-4DF4-AFD8-B1A6039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5CE-0EC6-4317-BB3A-A21BB72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991-EDC0-42D5-ACDF-CB6C231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972040" y="2030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0A83-AF4D-4114-98D6-1E69BCF5B2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6114960" y="203040"/>
            <a:ext cx="593280" cy="1726920"/>
            <a:chOff x="6114960" y="203040"/>
            <a:chExt cx="593280" cy="1726920"/>
          </a:xfrm>
        </p:grpSpPr>
        <p:sp>
          <p:nvSpPr>
            <p:cNvPr id="7" name="Oval 9"/>
            <p:cNvSpPr/>
            <p:nvPr/>
          </p:nvSpPr>
          <p:spPr>
            <a:xfrm>
              <a:off x="6114960" y="20304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6240600" y="203040"/>
              <a:ext cx="8892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6366600" y="203040"/>
              <a:ext cx="8748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6114960" y="42696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6240600" y="42696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6366600" y="426960"/>
              <a:ext cx="8748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6492600" y="42696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6114960" y="65088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6240600" y="65088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366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6492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6618600" y="65088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6114960" y="87480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240600" y="87480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6366600" y="874800"/>
              <a:ext cx="8748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6492600" y="87480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6114960" y="1098720"/>
              <a:ext cx="8964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6240600" y="109872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366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6492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6618600" y="1098720"/>
              <a:ext cx="89640" cy="159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6114960" y="1322640"/>
              <a:ext cx="89640" cy="157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6240600" y="1322640"/>
              <a:ext cx="8892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6366600" y="1322640"/>
              <a:ext cx="8748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492600" y="1322640"/>
              <a:ext cx="87480" cy="1576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6114960" y="154656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6240600" y="1546560"/>
              <a:ext cx="8892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6366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6492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6240600" y="1770480"/>
              <a:ext cx="8892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6492600" y="1770480"/>
              <a:ext cx="8748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5486400" y="1422360"/>
            <a:ext cx="0" cy="599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5619600" y="3989520"/>
            <a:ext cx="1002960" cy="2918520"/>
            <a:chOff x="5619600" y="3989520"/>
            <a:chExt cx="1002960" cy="2918520"/>
          </a:xfrm>
        </p:grpSpPr>
        <p:sp>
          <p:nvSpPr>
            <p:cNvPr id="76" name="Oval 9"/>
            <p:cNvSpPr/>
            <p:nvPr/>
          </p:nvSpPr>
          <p:spPr>
            <a:xfrm>
              <a:off x="561960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583272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6044400" y="398952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561960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583272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6044400" y="436860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6259680" y="436860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561960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583272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604440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625968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6471720" y="474732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5619600" y="512424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5832720" y="51242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6044400" y="512424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6259680" y="51242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561960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583272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604440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625968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6471720" y="550296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5619600" y="58820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5832720" y="588204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6044400" y="58820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6259680" y="588204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561960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583272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604440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625968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5832720" y="663948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6259680" y="663948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228600" y="3759120"/>
            <a:ext cx="6172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3243-03A5-4853-B6DF-8971E4A663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840" y="1714320"/>
            <a:ext cx="541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9000" y="4065120"/>
            <a:ext cx="5292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многоборь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-11.09.2016 г.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0280" y="971640"/>
            <a:ext cx="5657760" cy="16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многоборьям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8-11.09.2016 г.                                  г. Адлер с/к «Юность»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9360" y="2627280"/>
          <a:ext cx="6048360" cy="6024600"/>
        </p:xfrm>
        <a:graphic>
          <a:graphicData uri="http://schemas.openxmlformats.org/drawingml/2006/table">
            <a:tbl>
              <a:tblPr/>
              <a:tblGrid>
                <a:gridCol w="2173320"/>
                <a:gridCol w="1714320"/>
                <a:gridCol w="463680"/>
                <a:gridCol w="169704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Фас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ыба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Ш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Ис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Моч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10:03:34Z</cp:lastPrinted>
  <dcterms:modified xsi:type="dcterms:W3CDTF">2016-09-09T10:05:03Z</dcterms:modified>
  <cp:revision>3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